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C23-1AC4-424C-8177-F25BAA15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50D-296F-4DE5-81BA-F87CC6FB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560-88FB-479A-B495-D5D533DF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464-FDEE-43DF-8130-117F7648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616-DE56-4CD3-9CFE-3AE696D7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BFB-94B8-4AF2-8E2C-325DB40F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7CA-0C2C-40FB-BCCF-10D16699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D61-EFD0-4DD4-B740-C235D2F7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624-7541-4E7A-BF8B-587E1B55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4B4-70B4-4F92-B402-553B2E6F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7CE-8209-46EF-9F3A-2E9AD926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329-5E0F-4AE2-8BDE-5403A16E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6329-FF05-4726-BA7E-B2BAB24F6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shop.scholastic.com/webapp/wcs/stores/servlet/ProductDisplay?productId=64393&amp;langId=-1&amp;storeId=10001&amp;catalogId=10004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hop.scholastic.com/webapp/wcs/stores/servlet/ProductDisplay?productId=64393&amp;langId=-1&amp;storeId=10001&amp;catalogId=1000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hop.scholastic.com/webapp/wcs/stores/servlet/ProductDisplay?productId=64393&amp;langId=-1&amp;storeId=10001&amp;catalogId=10004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arch.yahoo.com/r/_ylt=A0oG7n0nGn5NpCcAZ7VXNyoA;_ylu=X3oDMTA0cWRkM2FvBHNtAzI-/SIG=120rhcrgu/EXP=1300131463/**http%3A/en.wikipedia.org/wiki/Henry_Box_Brown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shop.scholastic.com/webapp/wcs/stores/servlet/ProductDisplay?productId=64393&amp;langId=-1&amp;storeId=10001&amp;catalogId=10004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hop.scholastic.com/webapp/wcs/stores/servlet/ProductDisplay?productId=64393&amp;langId=-1&amp;storeId=10001&amp;catalogId=1000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search.yahoo.com/r/_ylt=A0oG7n0nGn5NpCcAZ7VXNyoA;_ylu=X3oDMTA0cWRkM2FvBHNtAzI-/SIG=120rhcrgu/EXP=1300131463/**http%3A/en.wikipedia.org/wiki/Henry_Box_Brow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op.scholastic.com/webapp/wcs/stores/servlet/ProductDisplay?productId=64393&amp;langId=-1&amp;storeId=10001&amp;catalogId=1000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search.yahoo.com/r/_ylt=A0oG7n0nGn5NpCcAZ7VXNyoA;_ylu=X3oDMTA0cWRkM2FvBHNtAzI-/SIG=120rhcrgu/EXP=1300131463/**http%3A/en.wikipedia.org/wiki/Henry_Box_Brow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Henry’s Freedom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2209680" cy="2038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24280"/>
            <a:ext cx="1940040" cy="2133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37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story that is retol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yle B. It is about a guy that wants to go to a place where there is no 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01920" y="4518000"/>
            <a:ext cx="662040" cy="27000"/>
          </a:xfrm>
          <a:custGeom>
            <a:avLst/>
            <a:gdLst/>
            <a:ahLst/>
            <a:rect l="l" t="t" r="r" b="b"/>
            <a:pathLst>
              <a:path w="1837" h="76">
                <a:moveTo>
                  <a:pt x="6672" y="12576"/>
                </a:moveTo>
                <a:cubicBezTo>
                  <a:pt x="6672" y="12584"/>
                  <a:pt x="6672" y="12593"/>
                  <a:pt x="6672" y="12601"/>
                </a:cubicBezTo>
                <a:cubicBezTo>
                  <a:pt x="6804" y="12601"/>
                  <a:pt x="6937" y="12601"/>
                  <a:pt x="7069" y="12601"/>
                </a:cubicBezTo>
                <a:cubicBezTo>
                  <a:pt x="7085" y="12580"/>
                  <a:pt x="7079" y="12572"/>
                  <a:pt x="7094" y="12551"/>
                </a:cubicBezTo>
                <a:cubicBezTo>
                  <a:pt x="7292" y="12551"/>
                  <a:pt x="7491" y="12551"/>
                  <a:pt x="7689" y="12551"/>
                </a:cubicBezTo>
                <a:cubicBezTo>
                  <a:pt x="7710" y="12572"/>
                  <a:pt x="7717" y="12590"/>
                  <a:pt x="7764" y="12601"/>
                </a:cubicBezTo>
                <a:cubicBezTo>
                  <a:pt x="7830" y="12617"/>
                  <a:pt x="7919" y="12601"/>
                  <a:pt x="7987" y="12601"/>
                </a:cubicBezTo>
                <a:cubicBezTo>
                  <a:pt x="8011" y="12615"/>
                  <a:pt x="8009" y="12623"/>
                  <a:pt x="8062" y="12626"/>
                </a:cubicBezTo>
                <a:cubicBezTo>
                  <a:pt x="8209" y="12635"/>
                  <a:pt x="8360" y="12626"/>
                  <a:pt x="8508" y="1262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49 0.00485 C -0.13594 0.01179 -0.13716 -0.00093 -0.14914 -0.00578 C -0.16563 -0.01226 -0.179 -0.01642 -0.1967 -0.01827 C -0.21875 -0.02636 -0.24028 -0.01665 -0.26181 -0.01202 C -0.26858 -0.00601 -0.27622 -0.00463 -0.28247 0.00277 C -0.28802 0.00948 -0.29462 0.0222 -0.29983 0.02821 C -0.30625 0.03561 -0.31771 0.03676 -0.32518 0.04092 C -0.33229 0.04485 -0.33664 0.05248 -0.34289 0.0578 C -0.34896 0.06335 -0.35 0.06104 -0.35695 0.06613 C -0.36789 0.07422 -0.37691 0.08647 -0.38716 0.09572 C -0.38768 0.10127 -0.38768 0.10705 -0.38872 0.1126 C -0.39098 0.12347 -0.40052 0.13503 -0.40469 0.14451 C -0.41007 0.15653 -0.41302 0.16809 -0.42049 0.17826 C -0.42552 0.19838 -0.43629 0.21503 -0.44132 0.23537 C -0.44011 0.2874 -0.43403 0.34867 -0.44427 0.40023 C -0.44618 0.41017 -0.44879 0.41988 -0.4507 0.42983 C -0.45278 0.44115 -0.45486 0.45225 -0.45695 0.46335 C -0.45799 0.46913 -0.46025 0.48046 -0.46025 0.48069 C -0.45695 0.49248 -0.46094 0.48162 -0.45226 0.49295 C -0.44549 0.5022 -0.43837 0.51168 -0.4316 0.52069 C -0.41962 0.53665 -0.41181 0.55792 -0.3967 0.56925 C -0.39566 0.56994 -0.3849 0.57919 -0.38247 0.57988 C -0.37639 0.5815 -0.36979 0.58127 -0.36337 0.58196 C -0.35677 0.58451 -0.34775 0.59075 -0.34115 0.5926 C -0.33611 0.59399 -0.33073 0.59376 -0.32518 0.59468 C -0.32205 0.59491 -0.31893 0.59584 -0.3158 0.59676 C -0.30174 0.60115 -0.28854 0.60994 -0.27448 0.61364 C -0.26181 0.61711 -0.24705 0.6178 -0.23473 0.62405 C -0.22709 0.62821 -0.22032 0.63422 -0.2125 0.63907 C -0.19236 0.65202 -0.16806 0.6474 -0.14584 0.65156 C -0.12917 0.65503 -0.11146 0.65734 -0.09514 0.66451 C -0.06146 0.64162 -0.02379 0.63792 0.01284 0.62821 C 0.02621 0.62983 0.03507 0.63237 0.04757 0.63491 C 0.14288 0.63422 0.24271 0.6652 0.3335 0.62613 C 0.33489 0.61873 0.33385 0.60994 0.33663 0.60324 C 0.33784 0.60046 0.34097 0.60046 0.34305 0.59884 C 0.36458 0.58035 0.34566 0.59445 0.36041 0.58405 C 0.3651 0.57526 0.36875 0.57341 0.37639 0.56925 C 0.38576 0.55052 0.3717 0.58081 0.38107 0.53133 C 0.38229 0.52416 0.38767 0.52 0.39062 0.51445 C 0.39514 0.49595 0.40034 0.47792 0.40486 0.45919 C 0.40729 0.44971 0.41441 0.43191 0.41441 0.43214 C 0.41597 0.41965 0.41857 0.40809 0.42083 0.39607 C 0.42031 0.36509 0.42031 0.33387 0.41927 0.30289 C 0.4184 0.27607 0.39774 0.26913 0.3842 0.2585 C 0.37222 0.24855 0.3625 0.23514 0.35086 0.22474 C 0.34739 0.2178 0.34618 0.21087 0.34305 0.2037 C 0.33507 0.1852 0.32777 0.16509 0.31753 0.14867 C 0.30764 0.13295 0.29236 0.12416 0.28264 0.10844 C 0.27465 0.09549 0.26527 0.08786 0.25573 0.07676 C 0.2526 0.07329 0.24826 0.06636 0.24461 0.06405 C 0.24114 0.06196 0.23715 0.06127 0.2335 0.05988 C 0.22986 0.05642 0.21441 0.04185 0.21128 0.04092 C 0.19323 0.03561 0.17534 0.03075 0.15729 0.02613 C 0.15156 0.01826 0.14652 0.01919 0.13819 0.01757 C 0.09913 0.01965 0.0875 0.01965 0.1033 0.01965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10405E-006 C 0.00608 -0.03353 -0.00017 0.00347 0.00313 -0.08254 C 0.004 -0.10451 0.01424 -0.12809 0.0191 -0.14798 C 0.02223 -0.16046 0.02396 -0.17364 0.02709 -0.18613 C 0.02761 -0.18821 0.02813 -0.19029 0.02865 -0.19237 C 0.03247 -0.22844 0.02796 -0.19584 0.03177 -0.19237 C 0.03525 -0.18913 0.04028 -0.19376 0.04445 -0.19445 C 0.06997 -0.2037 0.09618 -0.20624 0.12223 -0.21156 C 0.1283 -0.2141 0.13056 -0.21225 0.13646 -0.20925 C 0.15486 -0.21318 0.14601 -0.20624 0.14601 -0.23676 C 0.14601 -0.25434 0.14618 -0.27214 0.14757 -0.28971 C 0.1507 -0.32717 0.16736 -0.36208 0.17622 -0.39746 C 0.1757 -0.40023 0.17552 -0.40324 0.17466 -0.40624 C 0.17032 -0.41965 0.15677 -0.4178 0.18421 -0.41457 C 0.21302 -0.41734 0.24098 -0.42173 0.2698 -0.42705 C 0.26476 -0.43746 0.2632 -0.44925 0.26042 -0.46081 C 0.25591 -0.47977 0.2507 -0.49711 0.24601 -0.51584 C 0.24688 -0.5237 0.24931 -0.53133 0.24931 -0.53919 C 0.24931 -0.56925 0.24497 -0.5926 0.24931 -0.56671 C 0.2816 -0.5674 0.31407 -0.56254 0.34601 -0.56879 C 0.35243 -0.57017 0.33993 -0.59815 0.3382 -0.60069 C 0.33056 -0.62728 0.33299 -0.61133 0.3349 -0.64902 C 0.37587 -0.64 0.34757 -0.64509 0.42066 -0.64278 C 0.4573 -0.63769 0.49184 -0.62821 0.52865 -0.6259 C 0.53368 -0.62659 0.54236 -0.6215 0.54427 -0.62798 C 0.55018 -0.64832 0.54358 -0.67214 0.54757 -0.69341 C 0.5507 -0.68208 0.55052 -0.67237 0.56042 -0.66798 C 0.56285 -0.66682 0.56563 -0.66659 0.56806 -0.6659 C 0.5875 -0.65341 0.61563 -0.66035 0.63646 -0.66173 C 0.63907 -0.69017 0.64289 -0.71769 0.64445 -0.74636 C 0.65764 -0.72763 0.69184 -0.73434 0.70486 -0.73364 C 0.71285 -0.73434 0.72136 -0.73156 0.72865 -0.73572 C 0.73299 -0.73827 0.72153 -0.75491 0.72049 -0.75676 C 0.71684 -0.77295 0.72101 -0.79306 0.72205 -0.80971 C 0.73212 -0.80208 0.74132 -0.80069 0.75243 -0.79699 C 0.77726 -0.79769 0.80243 -0.79468 0.82709 -0.79908 C 0.82986 -0.79954 0.82292 -0.80809 0.82535 -0.80971 C 0.82969 -0.81272 0.8349 -0.80832 0.83976 -0.80763 C 0.84184 -0.80832 0.84497 -0.80717 0.84601 -0.80971 C 0.85226 -0.82405 0.83247 -0.81364 0.85087 -0.82451 C 0.86129 -0.83052 0.87466 -0.82798 0.88577 -0.83075 C 0.88768 -0.83121 0.88993 -0.83214 0.89202 -0.83306 C 0.89358 -0.83376 0.89861 -0.83515 0.89671 -0.83515 C 0.89462 -0.83515 0.89254 -0.83376 0.89046 -0.83306 C 0.88594 -0.82659 0.88733 -0.83075 0.88733 -0.82035 E">
                                      <p:cBhvr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Henry Brown did not know that much things about him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nry Brown wasn’t sure how old he w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nry was a slave, and slaves weren't aloud to know their birth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24280"/>
            <a:ext cx="1940040" cy="21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63868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9.25926E-006 C 0.00729 -0.00069 0.01458 -0.00115 0.0217 -0.00231 C 0.02639 -0.003 0.02899 -0.00648 0.03333 -0.00902 C 0.03837 -0.0118 0.04115 -0.01111 0.0467 -0.01342 C 0.05365 -0.0162 0.05972 -0.02222 0.06667 -0.02453 C 0.09375 -0.03356 0.12222 -0.02962 0.15 -0.03124 C 0.16129 -0.03472 0.17205 -0.0412 0.18333 -0.04444 C 0.19653 -0.04837 0.21007 -0.04953 0.22344 -0.05115 C 0.24792 -0.05972 0.22205 -0.05138 0.28333 -0.05787 C 0.29288 -0.05879 0.30226 -0.06157 0.31181 -0.06226 C 0.33681 -0.06388 0.36181 -0.06388 0.38681 -0.06458 C 0.41927 -0.07546 0.45521 -0.08055 0.4882 -0.08217 C 0.51719 -0.09212 0.47795 -0.07916 0.55833 -0.08888 C 0.5809 -0.09166 0.59757 -0.11921 0.6184 -0.13124 C 0.67847 -0.16597 0.73837 -0.20092 0.79844 -0.23564 C 0.80226 -0.23796 0.81007 -0.24236 0.81007 -0.24236 C 0.81111 -0.24444 0.81372 -0.24629 0.81337 -0.24884 C 0.81163 -0.25925 0.80712 -0.26203 0.80174 -0.26666 C 0.7941 -0.28217 0.79288 -0.27939 0.80833 -0.28217 C 0.81597 -0.28564 0.81163 -0.28449 0.8217 -0.28449 E">
                                      <p:cBhvr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3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and his brothers and his si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82296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0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0c1c"/>
                </a:solidFill>
                <a:latin typeface="Arial"/>
              </a:rPr>
              <a:t>Henry and his brothers and sisters worked in a big house where there master had liv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3960" y="4876920"/>
            <a:ext cx="1940040" cy="2133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229600" y="4343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3.06358E-006 C 0.00695 -0.0074 0.0106 -0.0141 0.01911 -0.01688 C 0.04237 -0.03746 0.09584 -0.05133 0.11112 -0.05711 C 0.14497 -0.06983 0.1705 -0.07584 0.20487 -0.07815 C 0.2382 -0.08763 0.25973 -0.0911 0.2856 -0.12046 C 0.28786 -0.12277 0.28907 -0.12601 0.29046 -0.12902 C 0.29445 -0.13803 0.2955 -0.14983 0.30157 -0.15653 C 0.31772 -0.17433 0.35556 -0.19815 0.37779 -0.20301 C 0.37605 -0.22196 0.37605 -0.22335 0.36824 -0.23884 C 0.35886 -0.29017 0.35192 -0.34104 0.34602 -0.39329 C 0.34515 -0.4104 0.34393 -0.45965 0.32866 -0.46728 C 0.38925 -0.47861 0.59497 -0.44301 0.52379 -0.47353 C 0.52431 -0.48555 0.5231 -0.4978 0.52536 -0.50936 C 0.52657 -0.51584 0.53091 -0.52046 0.53317 -0.52647 C 0.5356 -0.53295 0.53699 -0.54243 0.53803 -0.54959 C 0.53716 -0.55584 0.53577 -0.56925 0.53161 -0.56647 C 0.53022 -0.56555 0.53213 -0.56162 0.53317 -0.56023 C 0.53647 -0.55653 0.54046 -0.55353 0.54428 -0.55168 C 0.56338 -0.54243 0.58525 -0.53988 0.60487 -0.53688 C 0.64341 -0.5311 0.68213 -0.52578 0.72067 -0.52208 C 0.72588 -0.52277 0.73161 -0.52116 0.73647 -0.52416 C 0.73803 -0.52509 0.73543 -0.52855 0.73491 -0.53064 C 0.73386 -0.53618 0.73282 -0.54196 0.73178 -0.54751 C 0.73126 -0.55029 0.73022 -0.55607 0.73022 -0.55607 C 0.73074 -0.56023 0.73143 -0.56439 0.73178 -0.56855 C 0.73404 -0.59607 0.72779 -0.59884 0.7382 -0.58983 C 0.74237 -0.56647 0.77275 -0.55353 0.78421 -0.54543 C 0.79116 -0.54058 0.79793 -0.53549 0.80487 -0.53064 C 0.8106 -0.52647 0.83074 -0.52185 0.83977 -0.51792 C 0.83734 -0.52116 0.83386 -0.52301 0.83178 -0.52647 C 0.82379 -0.54012 0.83855 -0.52555 0.82536 -0.53688 C 0.82431 -0.54682 0.82327 -0.55653 0.82223 -0.56647 C 0.82171 -0.57133 0.82067 -0.58127 0.82067 -0.58127 C 0.82067 -0.58381 0.81268 -0.67792 0.82536 -0.64485 C 0.82605 -0.64277 0.8257 -0.63977 0.82709 -0.63838 C 0.82883 -0.63653 0.83126 -0.63699 0.83334 -0.6363 C 0.83716 -0.62058 0.83595 -0.61873 0.84914 -0.61526 C 0.85765 -0.62266 0.85244 -0.6252 0.85713 -0.6363 C 0.86129 -0.64601 0.86824 -0.65364 0.87154 -0.66381 C 0.87918 -0.68717 0.87536 -0.67653 0.88265 -0.69549 C 0.88369 -0.70543 0.88681 -0.71491 0.88716 -0.72509 C 0.88768 -0.73133 0.88369 -0.73827 0.88577 -0.74405 C 0.88595 -0.74474 0.88803 -0.7311 0.89046 -0.72301 C 0.89428 -0.70936 0.89897 -0.69595 0.90643 -0.68485 C 0.91129 -0.67746 0.91737 -0.67121 0.92223 -0.66381 C 0.9422 -0.63353 0.9606 -0.59399 0.99202 -0.58566 C 0.99463 -0.58636 0.9981 -0.5852 1.00001 -0.58775 C 1.00435 -0.59353 1.00366 -0.60925 1.00157 -0.61526 C 1.00088 -0.61757 0.99845 -0.61803 0.99688 -0.61942 C 0.99532 -0.61873 0.99202 -0.61734 0.99202 -0.61734 E">
                                      <p:cBhvr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and his brothers and his si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master had been good to Henry , and his family, but Henry’s mother knew that things could change some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724280"/>
            <a:ext cx="1940040" cy="2133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38 -0.14444 C -0.11632 -0.1537 -0.1198 -0.15578 -0.12934 -0.15995 C -0.13108 -0.16064 -0.13438 -0.16226 -0.13438 -0.16226 C -0.14375 -0.16157 -0.1533 -0.16111 -0.16268 -0.15995 C -0.17778 -0.1581 -0.15955 -0.15555 -0.18282 -0.15115 C -0.19375 -0.14907 -0.20504 -0.14953 -0.21615 -0.14884 C -0.24983 -0.14143 -0.22934 -0.1449 -0.27778 -0.14213 C -0.28664 -0.13981 -0.29584 -0.13703 -0.30278 -0.14675 C -0.34427 -0.14398 -0.38785 -0.15231 -0.42778 -0.13564 C -0.43733 -0.12222 -0.4217 -0.14236 -0.43941 -0.12893 C -0.45608 -0.1162 -0.42865 -0.12731 -0.44775 -0.11782 C -0.46476 -0.10925 -0.49271 -0.11342 -0.50608 -0.11342 E">
                                      <p:cBhvr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4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and his brothers and his si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mother said that “Do you see those leaves blowing in the wind? They are torn from the trees like slave children are torn from their famil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24280"/>
            <a:ext cx="194004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10405E-006 C 0.00608 -0.03353 -0.00017 0.00347 0.00313 -0.08254 C 0.004 -0.10451 0.01424 -0.12809 0.0191 -0.14798 C 0.02223 -0.16046 0.02396 -0.17364 0.02709 -0.18613 C 0.02761 -0.18821 0.02813 -0.19029 0.02865 -0.19237 C 0.03247 -0.22844 0.02796 -0.19584 0.03177 -0.19237 C 0.03525 -0.18913 0.04028 -0.19376 0.04445 -0.19445 C 0.06997 -0.2037 0.09618 -0.20624 0.12223 -0.21156 C 0.1283 -0.2141 0.13056 -0.21225 0.13646 -0.20925 C 0.15486 -0.21318 0.14601 -0.20624 0.14601 -0.23676 C 0.14601 -0.25434 0.14618 -0.27214 0.14757 -0.28971 C 0.1507 -0.32717 0.16736 -0.36208 0.17622 -0.39746 C 0.1757 -0.40023 0.17552 -0.40324 0.17466 -0.40624 C 0.17032 -0.41965 0.15677 -0.4178 0.18421 -0.41457 C 0.21302 -0.41734 0.24098 -0.42173 0.2698 -0.42705 C 0.26476 -0.43746 0.2632 -0.44925 0.26042 -0.46081 C 0.25591 -0.47977 0.2507 -0.49711 0.24601 -0.51584 C 0.24688 -0.5237 0.24931 -0.53133 0.24931 -0.53919 C 0.24931 -0.56925 0.24497 -0.5926 0.24931 -0.56671 C 0.2816 -0.5674 0.31407 -0.56254 0.34601 -0.56879 C 0.35243 -0.57017 0.33993 -0.59815 0.3382 -0.60069 C 0.33056 -0.62728 0.33299 -0.61133 0.3349 -0.64902 C 0.37587 -0.64 0.34757 -0.64509 0.42066 -0.64278 C 0.4573 -0.63769 0.49184 -0.62821 0.52865 -0.6259 C 0.53368 -0.62659 0.54236 -0.6215 0.54427 -0.62798 C 0.55018 -0.64832 0.54358 -0.67214 0.54757 -0.69341 C 0.5507 -0.68208 0.55052 -0.67237 0.56042 -0.66798 C 0.56285 -0.66682 0.56563 -0.66659 0.56806 -0.6659 C 0.5875 -0.65341 0.61563 -0.66035 0.63646 -0.66173 C 0.63907 -0.69017 0.64289 -0.71769 0.64445 -0.74636 C 0.65764 -0.72763 0.69184 -0.73434 0.70486 -0.73364 C 0.71285 -0.73434 0.72136 -0.73156 0.72865 -0.73572 C 0.73299 -0.73827 0.72153 -0.75491 0.72049 -0.75676 C 0.71684 -0.77295 0.72101 -0.79306 0.72205 -0.80971 C 0.73212 -0.80208 0.74132 -0.80069 0.75243 -0.79699 C 0.77726 -0.79769 0.80243 -0.79468 0.82709 -0.79908 C 0.82986 -0.79954 0.82292 -0.80809 0.82535 -0.80971 C 0.82969 -0.81272 0.8349 -0.80832 0.83976 -0.80763 C 0.84184 -0.80832 0.84497 -0.80717 0.84601 -0.80971 C 0.85226 -0.82405 0.83247 -0.81364 0.85087 -0.82451 C 0.86129 -0.83052 0.87466 -0.82798 0.88577 -0.83075 C 0.88768 -0.83121 0.88993 -0.83214 0.89202 -0.83306 C 0.89358 -0.83376 0.89861 -0.83515 0.89671 -0.83515 C 0.89462 -0.83515 0.89254 -0.83376 0.89046 -0.83306 C 0.88594 -0.82659 0.88733 -0.83075 0.88733 -0.82035 E">
                                      <p:cBhvr>
                                        <p:cTn id="5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800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’s life as a grown 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enry was lonely, one day he met Nancy, who was shopping for her mistress. They walked, and talked and they agreed to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24280"/>
            <a:ext cx="194004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mb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10405E-006 C 0.00608 -0.03353 -0.00017 0.00347 0.00313 -0.08254 C 0.004 -0.10451 0.01424 -0.12809 0.0191 -0.14798 C 0.02223 -0.16046 0.02396 -0.17364 0.02709 -0.18613 C 0.02761 -0.18821 0.02813 -0.19029 0.02865 -0.19237 C 0.03247 -0.22844 0.02796 -0.19584 0.03177 -0.19237 C 0.03525 -0.18913 0.04028 -0.19376 0.04445 -0.19445 C 0.06997 -0.2037 0.09618 -0.20624 0.12223 -0.21156 C 0.1283 -0.2141 0.13056 -0.21225 0.13646 -0.20925 C 0.15486 -0.21318 0.14601 -0.20624 0.14601 -0.23676 C 0.14601 -0.25434 0.14618 -0.27214 0.14757 -0.28971 C 0.1507 -0.32717 0.16736 -0.36208 0.17622 -0.39746 C 0.1757 -0.40023 0.17552 -0.40324 0.17466 -0.40624 C 0.17032 -0.41965 0.15677 -0.4178 0.18421 -0.41457 C 0.21302 -0.41734 0.24098 -0.42173 0.2698 -0.42705 C 0.26476 -0.43746 0.2632 -0.44925 0.26042 -0.46081 C 0.25591 -0.47977 0.2507 -0.49711 0.24601 -0.51584 C 0.24688 -0.5237 0.24931 -0.53133 0.24931 -0.53919 C 0.24931 -0.56925 0.24497 -0.5926 0.24931 -0.56671 C 0.2816 -0.5674 0.31407 -0.56254 0.34601 -0.56879 C 0.35243 -0.57017 0.33993 -0.59815 0.3382 -0.60069 C 0.33056 -0.62728 0.33299 -0.61133 0.3349 -0.64902 C 0.37587 -0.64 0.34757 -0.64509 0.42066 -0.64278 C 0.4573 -0.63769 0.49184 -0.62821 0.52865 -0.6259 C 0.53368 -0.62659 0.54236 -0.6215 0.54427 -0.62798 C 0.55018 -0.64832 0.54358 -0.67214 0.54757 -0.69341 C 0.5507 -0.68208 0.55052 -0.67237 0.56042 -0.66798 C 0.56285 -0.66682 0.56563 -0.66659 0.56806 -0.6659 C 0.5875 -0.65341 0.61563 -0.66035 0.63646 -0.66173 C 0.63907 -0.69017 0.64289 -0.71769 0.64445 -0.74636 C 0.65764 -0.72763 0.69184 -0.73434 0.70486 -0.73364 C 0.71285 -0.73434 0.72136 -0.73156 0.72865 -0.73572 C 0.73299 -0.73827 0.72153 -0.75491 0.72049 -0.75676 C 0.71684 -0.77295 0.72101 -0.79306 0.72205 -0.80971 C 0.73212 -0.80208 0.74132 -0.80069 0.75243 -0.79699 C 0.77726 -0.79769 0.80243 -0.79468 0.82709 -0.79908 C 0.82986 -0.79954 0.82292 -0.80809 0.82535 -0.80971 C 0.82969 -0.81272 0.8349 -0.80832 0.83976 -0.80763 C 0.84184 -0.80832 0.84497 -0.80717 0.84601 -0.80971 C 0.85226 -0.82405 0.83247 -0.81364 0.85087 -0.82451 C 0.86129 -0.83052 0.87466 -0.82798 0.88577 -0.83075 C 0.88768 -0.83121 0.88993 -0.83214 0.89202 -0.83306 C 0.89358 -0.83376 0.89861 -0.83515 0.89671 -0.83515 C 0.89462 -0.83515 0.89254 -0.83376 0.89046 -0.83306 C 0.88594 -0.82659 0.88733 -0.83075 0.88733 -0.82035 E">
                                      <p:cBhvr>
                                        <p:cTn id="6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8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8:53Z</dcterms:created>
  <dc:creator>test</dc:creator>
  <dc:description/>
  <dc:language>en-US</dc:language>
  <cp:lastModifiedBy>test</cp:lastModifiedBy>
  <dcterms:modified xsi:type="dcterms:W3CDTF">2011-03-28T13:52:48Z</dcterms:modified>
  <cp:revision>8</cp:revision>
  <dc:subject/>
  <dc:title>Henry’s Freedom box</dc:title>
</cp:coreProperties>
</file>